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ct" ContentType="image/x-pict"/>
  <Override PartName="/ppt/media/image11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494-9E36-4A2A-879C-26929E2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3EB-0AF9-44F3-A1AA-830B57E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3F2-AC8B-42E9-B021-FCCB164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669-AF17-48B2-A1BA-4164900D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51CA-F924-4C1B-90F1-A0E45792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1A2B-098F-47B7-801F-1D33226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902-26AA-4363-A401-4988920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354-2E2B-4344-BE04-B2FDB7E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FF0-E002-4377-838C-396F9C1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14440" y="11091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A53-6917-45C8-93A2-1665E81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4560-17C5-4157-8B4A-32181D3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9C7-C7FA-40E2-AE47-8F6CA47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C9F-123E-456A-A3FE-F1B7FC2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A41E-8DFE-4A24-8AB5-99BAA25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B91-6D48-4102-A564-36361D90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C9B-FEC1-4FCF-AE6D-262604A7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12A9-9DE8-493A-96C3-05F1E2BA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5EA-BCC3-4C08-A06F-AE0764A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1F8-A4FF-4CFF-92FF-0AF5A87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2F7-712A-47EF-938F-0B3EEBA8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514440" y="11091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3F6-D271-45D2-ADE8-6C20CB70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5CF-2FA7-4243-8EDF-49858C11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D5E-3D98-4BAF-9004-8BF3B126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B9D-E029-46F2-971C-331555D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67360" cy="1093320"/>
            <a:chOff x="0" y="0"/>
            <a:chExt cx="6867360" cy="1093320"/>
          </a:xfrm>
        </p:grpSpPr>
        <p:sp>
          <p:nvSpPr>
            <p:cNvPr id="1" name=""/>
            <p:cNvSpPr/>
            <p:nvPr/>
          </p:nvSpPr>
          <p:spPr>
            <a:xfrm>
              <a:off x="5760" y="0"/>
              <a:ext cx="6861240" cy="109332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24280"/>
              <a:ext cx="304560" cy="5799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6600" y="0"/>
              <a:ext cx="842760" cy="105228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5880" y="616680"/>
              <a:ext cx="298800" cy="4449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6080" y="0"/>
              <a:ext cx="189000" cy="1652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1040" y="0"/>
              <a:ext cx="541440" cy="495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23680" y="84600"/>
              <a:ext cx="492840" cy="24732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30840" y="0"/>
              <a:ext cx="618840" cy="5155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13360" y="352800"/>
              <a:ext cx="513000" cy="53424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93160" y="199440"/>
              <a:ext cx="471240" cy="52020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5680" y="550080"/>
              <a:ext cx="614160" cy="51156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42160" y="743040"/>
              <a:ext cx="492480" cy="2289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768120" y="860040"/>
              <a:ext cx="178200" cy="1645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23080" y="612000"/>
              <a:ext cx="176040" cy="2088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262400" y="132840"/>
              <a:ext cx="1116720" cy="36216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388400" y="331920"/>
              <a:ext cx="442800" cy="2250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07400" y="705960"/>
              <a:ext cx="378720" cy="36216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63320" y="667080"/>
              <a:ext cx="452520" cy="3992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74480" y="428760"/>
              <a:ext cx="622440" cy="1580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82520" y="426240"/>
              <a:ext cx="639360" cy="2750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15160" y="715320"/>
              <a:ext cx="952200" cy="3272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331680" y="550080"/>
              <a:ext cx="478440" cy="263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8926560"/>
            <a:ext cx="6877080" cy="199440"/>
            <a:chOff x="0" y="8926560"/>
            <a:chExt cx="6877080" cy="199440"/>
          </a:xfrm>
        </p:grpSpPr>
        <p:sp>
          <p:nvSpPr>
            <p:cNvPr id="24" name=""/>
            <p:cNvSpPr/>
            <p:nvPr/>
          </p:nvSpPr>
          <p:spPr>
            <a:xfrm>
              <a:off x="4811400" y="8960760"/>
              <a:ext cx="2065680" cy="16524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56320" y="8939880"/>
              <a:ext cx="3160800" cy="13752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8926560"/>
              <a:ext cx="2430000" cy="141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498600" y="919800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327400" y="919800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4898520" y="91980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846E-C7F5-421C-AF72-926280F1D60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4400" y="1603440"/>
            <a:ext cx="6867360" cy="1093320"/>
            <a:chOff x="14400" y="1603440"/>
            <a:chExt cx="6867360" cy="1093320"/>
          </a:xfrm>
        </p:grpSpPr>
        <p:sp>
          <p:nvSpPr>
            <p:cNvPr id="69" name=""/>
            <p:cNvSpPr/>
            <p:nvPr/>
          </p:nvSpPr>
          <p:spPr>
            <a:xfrm>
              <a:off x="20160" y="1603440"/>
              <a:ext cx="6861240" cy="109332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00" y="1827720"/>
              <a:ext cx="304560" cy="5799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000" y="1603440"/>
              <a:ext cx="842760" cy="105228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280" y="2220120"/>
              <a:ext cx="298800" cy="4449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0480" y="1603440"/>
              <a:ext cx="189000" cy="1652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440" y="1603440"/>
              <a:ext cx="541440" cy="495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38080" y="1688040"/>
              <a:ext cx="492840" cy="24732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45240" y="1603440"/>
              <a:ext cx="618840" cy="5155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7760" y="1956240"/>
              <a:ext cx="513000" cy="53424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07560" y="1802880"/>
              <a:ext cx="471240" cy="52020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10080" y="2153520"/>
              <a:ext cx="614160" cy="51156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6560" y="2346480"/>
              <a:ext cx="492480" cy="2289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2520" y="2463480"/>
              <a:ext cx="178200" cy="1645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7480" y="2215440"/>
              <a:ext cx="176040" cy="2088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6800" y="1736280"/>
              <a:ext cx="1116720" cy="36216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800" y="1935360"/>
              <a:ext cx="442800" cy="2250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21800" y="2309400"/>
              <a:ext cx="378720" cy="36216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7720" y="2270520"/>
              <a:ext cx="452520" cy="3992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8880" y="2032200"/>
              <a:ext cx="622440" cy="1580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6920" y="2029680"/>
              <a:ext cx="639360" cy="2750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29560" y="2318760"/>
              <a:ext cx="952200" cy="3272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6080" y="2153520"/>
              <a:ext cx="478440" cy="263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5840" y="8899560"/>
            <a:ext cx="6877080" cy="199800"/>
            <a:chOff x="15840" y="8899560"/>
            <a:chExt cx="6877080" cy="199800"/>
          </a:xfrm>
        </p:grpSpPr>
        <p:sp>
          <p:nvSpPr>
            <p:cNvPr id="92" name=""/>
            <p:cNvSpPr/>
            <p:nvPr/>
          </p:nvSpPr>
          <p:spPr>
            <a:xfrm>
              <a:off x="4827240" y="8933760"/>
              <a:ext cx="2065680" cy="16560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72160" y="8912880"/>
              <a:ext cx="3160800" cy="13788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40" y="8899560"/>
              <a:ext cx="2430000" cy="141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2698920"/>
            <a:ext cx="58291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514080" y="91695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2343240" y="916956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4915080" y="916956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23F-71B2-47DD-B00B-D2DD9F5CC1C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salva la vit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5486400"/>
            <a:ext cx="4800600" cy="38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Tomografia Assiale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Computerizzata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(TAC)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Bauhaus 93"/>
              </a:rPr>
              <a:t>Trasformata di Radon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18255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gioca e vinc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4840" y="4938120"/>
            <a:ext cx="4835520" cy="48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8a18"/>
                </a:solidFill>
                <a:latin typeface="Kidprint"/>
              </a:rPr>
              <a:t>teoria dei giochi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permette (talvolta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trovare la </a:t>
            </a:r>
            <a:r>
              <a:rPr b="0" lang="en-US" sz="2800" spc="-1" strike="noStrike">
                <a:solidFill>
                  <a:srgbClr val="f502b4"/>
                </a:solidFill>
                <a:latin typeface="Kidprint"/>
              </a:rPr>
              <a:t>strategia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miglior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in un </a:t>
            </a:r>
            <a:r>
              <a:rPr b="0" lang="en-US" sz="2800" spc="-1" strike="noStrike">
                <a:solidFill>
                  <a:srgbClr val="60ca8e"/>
                </a:solidFill>
                <a:latin typeface="Kidprint"/>
              </a:rPr>
              <a:t>gioco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da tavolo o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nella finanza </a:t>
            </a:r>
            <a:r>
              <a:rPr b="0" lang="en-US" sz="2800" spc="-1" strike="noStrike">
                <a:solidFill>
                  <a:srgbClr val="48e7f3"/>
                </a:solidFill>
                <a:latin typeface="Kidprint"/>
              </a:rPr>
              <a:t>mondial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(e di vincere un premio </a:t>
            </a:r>
            <a:r>
              <a:rPr b="0" lang="en-US" sz="2800" spc="-1" strike="noStrike">
                <a:solidFill>
                  <a:srgbClr val="660066"/>
                </a:solidFill>
                <a:latin typeface="Kidprint"/>
              </a:rPr>
              <a:t>Nobel,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e di diventare </a:t>
            </a:r>
            <a:r>
              <a:rPr b="0" lang="en-US" sz="2800" spc="-1" strike="noStrike">
                <a:solidFill>
                  <a:srgbClr val="ffcc18"/>
                </a:solidFill>
                <a:latin typeface="Kidprint"/>
              </a:rPr>
              <a:t>protagonisti 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un film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60600" y="2895480"/>
            <a:ext cx="3887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viva e lotta insieme a noi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5010120" cy="49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1799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riviste di matematic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	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nel mond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61927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nuovi articoli ogni anno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848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 teoremi nuovi dimostrat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	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al giorno</a:t>
            </a:r>
            <a:r>
              <a:rPr b="0" lang="en-US" sz="3200" spc="-1" strike="noStrike">
                <a:solidFill>
                  <a:srgbClr val="545472"/>
                </a:solidFill>
                <a:latin typeface="cmsl9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57400" y="7162920"/>
            <a:ext cx="289548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5829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arricchisc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Il Clay Institute pagherà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e30f33"/>
                </a:solidFill>
                <a:latin typeface="NuptialScript"/>
              </a:rPr>
              <a:t>1 milione di dollari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al primo che risolverà uno di </a:t>
            </a:r>
            <a:r>
              <a:rPr b="0" lang="it-IT" sz="4400" spc="-1" strike="noStrike">
                <a:solidFill>
                  <a:srgbClr val="545472"/>
                </a:solidFill>
                <a:latin typeface="NuptialScript"/>
              </a:rPr>
              <a:t>sette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45472"/>
                </a:solidFill>
                <a:latin typeface="NuptialScript"/>
              </a:rPr>
              <a:t>problemi fondamentali della matematica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45472"/>
                </a:solidFill>
                <a:latin typeface="NuptialScript"/>
              </a:rPr>
              <a:t>(e adesso esiste anche il premio Abel)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990720" cy="1067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990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5829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paradossal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3194640"/>
            <a:ext cx="5665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Se un mentitore afferma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“</a:t>
            </a: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Io sto mentendo,”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dice la verità, o no?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9160" y="22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57800" y="5943600"/>
            <a:ext cx="1165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art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4440" y="3073320"/>
            <a:ext cx="58291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golos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889360"/>
            <a:ext cx="54734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Come si può tagliar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una torta in quattro part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in modo che tutti siano convinti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di aver ricevuto una fetta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Century Schoolbook"/>
              </a:rPr>
              <a:t>grande come quella degli altri?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5867280"/>
            <a:ext cx="2590560" cy="198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83440" y="800100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Century Schoolbook"/>
              </a:rPr>
              <a:t>(Per non parlar delle elezioni...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è autocritica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(o vanitosa?)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28386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La </a:t>
            </a:r>
            <a:r>
              <a:rPr b="1" i="1" lang="en-US" sz="2400" spc="-1" strike="noStrike">
                <a:solidFill>
                  <a:srgbClr val="545472"/>
                </a:solidFill>
                <a:latin typeface="Times New Roman"/>
              </a:rPr>
              <a:t>maggior</a:t>
            </a: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 part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ei progressi della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matematic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contemporane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ono stat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ottenuti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riflettendo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ulla </a:t>
            </a:r>
            <a:r>
              <a:rPr b="1" i="1" lang="en-US" sz="2400" spc="-1" strike="noStrike">
                <a:solidFill>
                  <a:srgbClr val="f502b4"/>
                </a:solidFill>
                <a:latin typeface="Times New Roman"/>
              </a:rPr>
              <a:t>struttura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degli oggett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matematic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45472"/>
                </a:solidFill>
                <a:latin typeface="Times New Roman"/>
              </a:rPr>
              <a:t>stess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05320" y="4343400"/>
            <a:ext cx="28382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riduce lo stres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06000" y="5719320"/>
            <a:ext cx="461484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I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modelli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matematici del traffico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possono aiutare a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ogettar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la rete stradale in modo da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evenire</a:t>
            </a:r>
            <a:r>
              <a:rPr b="0" lang="en-US" sz="2800" spc="-1" strike="noStrike">
                <a:solidFill>
                  <a:srgbClr val="545472"/>
                </a:solidFill>
                <a:latin typeface="Bernard MT Condensed"/>
              </a:rPr>
              <a:t> gli ingorghi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432612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16040" y="4452840"/>
            <a:ext cx="18511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11091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La </a:t>
            </a:r>
            <a:r>
              <a:rPr b="0" lang="en-US" sz="4400" spc="-1" strike="noStrike">
                <a:solidFill>
                  <a:srgbClr val="e30f33"/>
                </a:solidFill>
                <a:latin typeface="Textile"/>
              </a:rPr>
              <a:t>MATEMATICA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extile"/>
              </a:rPr>
              <a:t>dà sicurezza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2862360"/>
            <a:ext cx="6330960" cy="37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Tutti i principali sistemi di crittografia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si basano su risultati profondi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di</a:t>
            </a:r>
            <a:r>
              <a:rPr b="0" lang="it-IT" sz="32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3200" spc="-1" strike="noStrike">
                <a:solidFill>
                  <a:srgbClr val="9595ff"/>
                </a:solidFill>
                <a:latin typeface="AGaramond Italic"/>
              </a:rPr>
              <a:t>teoria dei numeri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(trovare i </a:t>
            </a:r>
            <a:r>
              <a:rPr b="0" lang="it-IT" sz="2800" spc="-1" strike="noStrike">
                <a:solidFill>
                  <a:srgbClr val="f58a18"/>
                </a:solidFill>
                <a:latin typeface="AGaramond Italic"/>
              </a:rPr>
              <a:t>fattori primi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 di un numero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lto grande richiede</a:t>
            </a:r>
            <a:r>
              <a:rPr b="0" lang="it-IT" sz="28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oolto</a:t>
            </a:r>
            <a:r>
              <a:rPr b="0" lang="it-IT" sz="2800" spc="-1" strike="noStrike">
                <a:solidFill>
                  <a:srgbClr val="545472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tempo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92120" y="5867280"/>
            <a:ext cx="4148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2:51:00Z</dcterms:created>
  <dc:creator>Marco Abate</dc:creator>
  <dc:description/>
  <dc:language>en-US</dc:language>
  <cp:lastModifiedBy>Marco Abate</cp:lastModifiedBy>
  <cp:lastPrinted>2002-11-08T13:03:03Z</cp:lastPrinted>
  <dcterms:modified xsi:type="dcterms:W3CDTF">2002-11-08T13:07:23Z</dcterms:modified>
  <cp:revision>19</cp:revision>
  <dc:subject/>
  <dc:title> La MATEMATICA salva la vita</dc:title>
</cp:coreProperties>
</file>