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ct" ContentType="image/x-pict"/>
  <Override PartName="/ppt/media/image9.pct" ContentType="image/x-pict"/>
  <Override PartName="/ppt/media/image1.jpeg" ContentType="image/jpeg"/>
  <Override PartName="/ppt/media/image2.png" ContentType="image/png"/>
  <Override PartName="/ppt/media/image3.pct" ContentType="image/x-pict"/>
  <Override PartName="/ppt/media/image6.png" ContentType="image/png"/>
  <Override PartName="/ppt/media/image12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8.pct" ContentType="image/x-pict"/>
  <Override PartName="/ppt/media/image13.jpeg" ContentType="image/jpeg"/>
  <Override PartName="/ppt/media/image1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A80-D548-4763-8D03-A3A851E2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D8B-C2C9-46FC-AC9E-866CBF40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343-7DED-4018-9C0F-3F385C00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2A3-9D86-4D8D-A0F0-397A867B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2339-0356-4517-AA2D-B3A9CD3E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44FA-144C-41A6-8D05-62E6D1EB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129-E465-438C-8A76-C91F108C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A5D5-583F-4E84-B5E3-10B2005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4D1-D4CA-4B9A-A452-BFB32B6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2D81-6C33-47F9-9E8D-D7F4890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816F-1F34-4CAE-8600-705C6B28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8CA-E3AB-4BF9-B82F-DB7D88DD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A26-C251-4955-B6B3-A05F75A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18F-AF68-48A4-89EF-C420589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C5B-71CB-43A8-9CB6-59E91CE2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B1C-A85A-4FD8-B5AA-2C96B91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7146-3ACA-4F5A-8CC7-08495377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051-A9F1-4EF1-A939-2719295C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AC8-5FF5-4D7F-BA32-4DA9C1E9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CC9-2415-46D5-9B62-45977B6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C40-D540-4298-945F-2A36DA5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F82-66F1-472F-8365-DAC6E53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A79-3DE6-41B1-BABC-58D46FA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7D0-CC54-4DA6-A0E3-1A6A7A3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6920" cy="161280"/>
            <a:chOff x="71280" y="176040"/>
            <a:chExt cx="874692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840" y="-3956040"/>
              <a:ext cx="58680" cy="8527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4320" y="-4167000"/>
              <a:ext cx="60480" cy="874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B21-02C1-46AB-8722-B31F1351553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FB20-21E4-455F-B76A-12772D9C9E9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70e"/>
                </a:solidFill>
                <a:latin typeface="Apple Chancery"/>
              </a:rPr>
              <a:t>Secondo Anno, curriculum fondament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trutture algebriche astratte (gruppi, anelli…)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erivate e integrali di funzioni di più variabili reali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eoria e tecniche di calcolo al computer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 + 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Geometria proiettiva, topologia di spazi geometrici qualsiasi, funzioni di una variabile complessa.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Un corso a scelta di altra matematic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Probabilità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ntroduzione alla probabilità e alla statistic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Secondo Anno, curriculum computazi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Strutture algebriche astratte (gruppi, anelli…)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erivate e integrali di funzioni di più variabili reali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eoria e tecniche di calcolo al computer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2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Geometria proiettiva, introduzione alla topologia di spazi geometrici qualsiasi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Algoritmi e strutture dei dati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Probabilità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troduzione alla probabilità e alla statistic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Ricerca operativ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eoria e tecniche per risolvere problemi di programmazione linear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70e"/>
                </a:solidFill>
                <a:latin typeface="Apple Chancery"/>
              </a:rPr>
              <a:t>Terzo Anno, curriculum fondament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Fis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Elettromagnetismo.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Fisica 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tematica originata da motivazioni fisiche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luzione al calcolatore di problemi matematici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ue corsi di Matematica (più) avanzata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A scelta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ue corsi scelti liberamente dallo studente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12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Tesi: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Esposizione di un risultato (non originale ma) profondo. </a:t>
            </a:r>
            <a:r>
              <a:rPr b="0" lang="en-US" sz="2000" spc="-1" strike="noStrike">
                <a:solidFill>
                  <a:srgbClr val="f502b4"/>
                </a:solidFill>
                <a:latin typeface="Times New Roman"/>
              </a:rPr>
              <a:t>(8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Terzo Anno, curriculum computaziona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Numer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Algoritmi di matematica numerica e simbolica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Fisica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Matematica originata da motivazioni fisich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Linguaggi di programmazione e realizzazione di softwar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8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ue corsi di Matematica (più) avanzat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 scelt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ue corsi scelti liberamente dallo student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2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Tesi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Esposizione di un risultato (non originale ma) profondo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8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viva </a:t>
            </a: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e lotta insieme a no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30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1799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riviste di matematica nel mond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61927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nuovi articoli ogni an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02b4"/>
                </a:solidFill>
                <a:latin typeface="AGaramond Italic"/>
              </a:rPr>
              <a:t>848</a:t>
            </a:r>
            <a:r>
              <a:rPr b="0" lang="en-US" sz="3200" spc="-1" strike="noStrike">
                <a:solidFill>
                  <a:srgbClr val="46b6dc"/>
                </a:solidFill>
                <a:latin typeface="AGaramond Italic"/>
              </a:rPr>
              <a:t>  teoremi nuovi dimostrati al giorno</a:t>
            </a:r>
            <a:r>
              <a:rPr b="0" lang="en-US" sz="3200" spc="-1" strike="noStrike">
                <a:solidFill>
                  <a:srgbClr val="f8f8f8"/>
                </a:solidFill>
                <a:latin typeface="cmsl9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743200" y="4572000"/>
            <a:ext cx="3860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arricchisc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44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Il Clay Institute pagherà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30f33"/>
                </a:solidFill>
                <a:latin typeface="NuptialScript"/>
              </a:rPr>
              <a:t>1 milione di dollar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alla prima persona che risolverà un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fra sette problemi fondamentali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della matemati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NuptialScript"/>
              </a:rPr>
              <a:t>(e adesso esiste anche il premio Abel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91520" y="2438280"/>
            <a:ext cx="1320840" cy="738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3208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salva la vit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3601800"/>
            <a:ext cx="7696440" cy="31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Tomografia Assiale Computerizzata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(TAC)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=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Bauhaus 93"/>
              </a:rPr>
              <a:t>Trasformata di Rado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1824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art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paradossal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56880" y="2551680"/>
            <a:ext cx="55515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Se un livornese afferm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“</a:t>
            </a:r>
            <a:r>
              <a:rPr b="0" lang="en-US" sz="4000" spc="-1" strike="noStrike">
                <a:solidFill>
                  <a:srgbClr val="275ef5"/>
                </a:solidFill>
                <a:latin typeface="Alleycat ICG Bold"/>
              </a:rPr>
              <a:t>Io sto mentendo,”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58a18"/>
                </a:solidFill>
                <a:latin typeface="Alleycat ICG Bold"/>
              </a:rPr>
              <a:t>dice la verità, o no?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54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934320" y="2209680"/>
            <a:ext cx="15541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riduce lo stress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4278600"/>
            <a:ext cx="696096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I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modelli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matematici del traffico possono aiutar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a </a:t>
            </a: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ogettare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la rete stradale in modo da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8a18"/>
                </a:solidFill>
                <a:latin typeface="Bernard MT Condensed"/>
              </a:rPr>
              <a:t>prevenire</a:t>
            </a:r>
            <a:r>
              <a:rPr b="0" lang="en-US" sz="2800" spc="-1" strike="noStrike">
                <a:solidFill>
                  <a:srgbClr val="f8f8f8"/>
                </a:solidFill>
                <a:latin typeface="Bernard MT Condensed"/>
              </a:rPr>
              <a:t> gli ingorgh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588280" cy="244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26208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752480"/>
            <a:ext cx="685800" cy="4191120"/>
          </a:xfrm>
          <a:prstGeom prst="rect">
            <a:avLst/>
          </a:prstGeom>
          <a:solidFill>
            <a:srgbClr val="ff6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752480"/>
            <a:ext cx="685800" cy="4191120"/>
          </a:xfrm>
          <a:prstGeom prst="rect">
            <a:avLst/>
          </a:prstGeom>
          <a:solidFill>
            <a:srgbClr val="ffa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752480"/>
            <a:ext cx="685800" cy="4191120"/>
          </a:xfrm>
          <a:prstGeom prst="rect">
            <a:avLst/>
          </a:prstGeom>
          <a:solidFill>
            <a:srgbClr val="ffe6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solidFill>
            <a:srgbClr val="d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752480"/>
            <a:ext cx="685800" cy="4191120"/>
          </a:xfrm>
          <a:prstGeom prst="rect">
            <a:avLst/>
          </a:prstGeom>
          <a:solidFill>
            <a:srgbClr val="99ff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solidFill>
            <a:srgbClr val="66ff7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1752480"/>
            <a:ext cx="685800" cy="4191120"/>
          </a:xfrm>
          <a:prstGeom prst="rect">
            <a:avLst/>
          </a:prstGeom>
          <a:solidFill>
            <a:srgbClr val="66ffb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752480"/>
            <a:ext cx="685800" cy="419112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752480"/>
            <a:ext cx="685800" cy="419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752480"/>
            <a:ext cx="685800" cy="4191120"/>
          </a:xfrm>
          <a:prstGeom prst="rect">
            <a:avLst/>
          </a:prstGeom>
          <a:solidFill>
            <a:srgbClr val="668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752480"/>
            <a:ext cx="685800" cy="4191120"/>
          </a:xfrm>
          <a:prstGeom prst="rect">
            <a:avLst/>
          </a:prstGeom>
          <a:solidFill>
            <a:srgbClr val="7f6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8895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Agra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5400000">
            <a:off x="-20376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Econom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4816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Farmac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11674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Giurisprudenz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1802880" y="3589200"/>
            <a:ext cx="404784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Ingegne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253908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Lettere e Filosof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 rot="5400000">
            <a:off x="32252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Lingu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39110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Medicin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45968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CIENZE MFN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52826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Scienze Politich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968440" y="3556080"/>
            <a:ext cx="396252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Veterinari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dà sicurezza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63080" cy="31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Tutti i principali sistemi di crittografia si basano su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1cad1"/>
                </a:solidFill>
                <a:latin typeface="AGaramond Italic"/>
              </a:rPr>
              <a:t>risultati profondi di</a:t>
            </a:r>
            <a:r>
              <a:rPr b="0" lang="it-IT" sz="32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3200" spc="-1" strike="noStrike">
                <a:solidFill>
                  <a:srgbClr val="00ffff"/>
                </a:solidFill>
                <a:latin typeface="AGaramond Italic"/>
              </a:rPr>
              <a:t>teoria dei numer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(trovare i </a:t>
            </a:r>
            <a:r>
              <a:rPr b="0" lang="it-IT" sz="2800" spc="-1" strike="noStrike">
                <a:solidFill>
                  <a:srgbClr val="f58a18"/>
                </a:solidFill>
                <a:latin typeface="AGaramond Italic"/>
              </a:rPr>
              <a:t>fattori primi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 di un numero molto grand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richiede</a:t>
            </a:r>
            <a:r>
              <a:rPr b="0" lang="it-IT" sz="28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mooolto</a:t>
            </a:r>
            <a:r>
              <a:rPr b="0" lang="it-IT" sz="2800" spc="-1" strike="noStrike">
                <a:solidFill>
                  <a:srgbClr val="f8f8f8"/>
                </a:solidFill>
                <a:latin typeface="AGaramond Italic"/>
              </a:rPr>
              <a:t> </a:t>
            </a:r>
            <a:r>
              <a:rPr b="0" lang="it-IT" sz="2800" spc="-1" strike="noStrike">
                <a:solidFill>
                  <a:srgbClr val="11cad1"/>
                </a:solidFill>
                <a:latin typeface="AGaramond Italic"/>
              </a:rPr>
              <a:t>tempo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50785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gioca e vince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1200" y="3578760"/>
            <a:ext cx="7829280" cy="30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8a18"/>
                </a:solidFill>
                <a:latin typeface="Kidprint"/>
              </a:rPr>
              <a:t>teoria dei giochi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permette (talvolta) di trovar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la </a:t>
            </a:r>
            <a:r>
              <a:rPr b="0" lang="en-US" sz="2800" spc="-1" strike="noStrike">
                <a:solidFill>
                  <a:srgbClr val="f502b4"/>
                </a:solidFill>
                <a:latin typeface="Kidprint"/>
              </a:rPr>
              <a:t>strategia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migliore in un </a:t>
            </a:r>
            <a:r>
              <a:rPr b="0" lang="en-US" sz="2800" spc="-1" strike="noStrike">
                <a:solidFill>
                  <a:srgbClr val="60ca8e"/>
                </a:solidFill>
                <a:latin typeface="Kidprint"/>
              </a:rPr>
              <a:t>gioco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 da tavolo 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nella finanza </a:t>
            </a:r>
            <a:r>
              <a:rPr b="0" lang="en-US" sz="2800" spc="-1" strike="noStrike">
                <a:solidFill>
                  <a:srgbClr val="48e7f3"/>
                </a:solidFill>
                <a:latin typeface="Kidprint"/>
              </a:rPr>
              <a:t>mondia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(e di vincere un premio </a:t>
            </a:r>
            <a:r>
              <a:rPr b="0" lang="en-US" sz="2800" spc="-1" strike="noStrike">
                <a:solidFill>
                  <a:srgbClr val="fff41e"/>
                </a:solidFill>
                <a:latin typeface="Kidprint"/>
              </a:rPr>
              <a:t>Nobel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e di diventare </a:t>
            </a:r>
            <a:r>
              <a:rPr b="0" lang="en-US" sz="2800" spc="-1" strike="noStrike">
                <a:solidFill>
                  <a:srgbClr val="ffcc18"/>
                </a:solidFill>
                <a:latin typeface="Kidprint"/>
              </a:rPr>
              <a:t>protagonisti </a:t>
            </a:r>
            <a:r>
              <a:rPr b="0" lang="en-US" sz="2800" spc="-1" strike="noStrike">
                <a:solidFill>
                  <a:srgbClr val="7465dc"/>
                </a:solidFill>
                <a:latin typeface="Kidprint"/>
              </a:rPr>
              <a:t>di un film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3196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La </a:t>
            </a:r>
            <a:r>
              <a:rPr b="0" lang="en-US" sz="3600" spc="-1" strike="noStrike">
                <a:solidFill>
                  <a:srgbClr val="e30f33"/>
                </a:solidFill>
                <a:latin typeface="Textile"/>
              </a:rPr>
              <a:t>MATEMATICA</a:t>
            </a: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 è autocritica </a:t>
            </a:r>
            <a:br>
              <a:rPr sz="3600"/>
            </a:br>
            <a:r>
              <a:rPr b="0" lang="en-US" sz="3600" spc="-1" strike="noStrike">
                <a:solidFill>
                  <a:srgbClr val="fff41e"/>
                </a:solidFill>
                <a:latin typeface="Textile"/>
              </a:rPr>
              <a:t>(o vanitosa?)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378468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La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</a:rPr>
              <a:t>maggior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 parte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dei progressi dell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matematica contemporane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sono stati ottenuti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riflettendo sulla </a:t>
            </a:r>
            <a:r>
              <a:rPr b="1" i="1" lang="en-US" sz="2400" spc="-1" strike="noStrike">
                <a:solidFill>
                  <a:srgbClr val="f502b4"/>
                </a:solidFill>
                <a:latin typeface="Times New Roman"/>
              </a:rPr>
              <a:t>struttur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degli oggetti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matematici stessi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76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Vogliamo trovare le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radici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un polinomio a coefficienti reali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d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30000">
                <a:solidFill>
                  <a:srgbClr val="36f83d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+ … +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1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 + a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è una radice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0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sa vuol dire </a:t>
            </a:r>
            <a:r>
              <a:rPr b="0" i="1" lang="it-IT" sz="2400" spc="-1" strike="noStrike">
                <a:solidFill>
                  <a:srgbClr val="ffff42"/>
                </a:solidFill>
                <a:latin typeface="Times New Roman"/>
              </a:rPr>
              <a:t>trovare una radice?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Formule generali che esprimono le radici tramite i coefficienti del polinomio ci sono solo per polinomi di secondo, terzo e quarto grado; formule analoghe per polinomi di grado 5 o più al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2b23"/>
                </a:solidFill>
                <a:latin typeface="Times New Roman"/>
              </a:rPr>
              <a:t>non esistono.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Idea di Newton (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diciassettesimo secolo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):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trovare un procedimento (un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algoritm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) che applicato a un numero qualsiasi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fornisca un nuovo numero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più vicin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a essere una radice di quanto non fosse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0.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. Ripetendo il procedimento partendo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(e poi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poi da </a:t>
            </a:r>
            <a:r>
              <a:rPr b="0" i="1" lang="en-US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6699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e così via) si spera di </a:t>
            </a:r>
            <a:r>
              <a:rPr b="0" lang="en-US" sz="3200" spc="-1" strike="noStrike">
                <a:solidFill>
                  <a:srgbClr val="ffff42"/>
                </a:solidFill>
                <a:latin typeface="Times New Roman"/>
              </a:rPr>
              <a:t>approssimar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una radice del polinomio con la </a:t>
            </a:r>
            <a:r>
              <a:rPr b="0" lang="en-US" sz="3200" spc="-1" strike="noStrike">
                <a:solidFill>
                  <a:srgbClr val="36f83d"/>
                </a:solidFill>
                <a:latin typeface="Times New Roman"/>
              </a:rPr>
              <a:t>precision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 che si desidera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Algoritmo di Newton: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dato il polinomio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 e il tentativo inizial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, tracciamo la tangente al grafico di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nel punto 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), e prendiamo com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1 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l’ intersezione della tangente con l’asse delle asciss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In formul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 = 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 – 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)/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p’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36f83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dove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’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) è la derivata di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 calcolata in </a:t>
            </a:r>
            <a:r>
              <a:rPr b="0" i="1" lang="it-IT" sz="28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171880" y="1752480"/>
            <a:ext cx="4798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Domanda: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 ma il metodo di Newton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funziona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Risposta di Newton: </a:t>
            </a:r>
            <a:r>
              <a:rPr b="1" i="1" lang="it-IT" sz="3200" spc="-1" strike="noStrike">
                <a:solidFill>
                  <a:srgbClr val="ff2b23"/>
                </a:solidFill>
                <a:latin typeface="Times New Roman"/>
              </a:rPr>
              <a:t>Sì,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se si parte da un valore </a:t>
            </a:r>
            <a:r>
              <a:rPr b="0" i="1" lang="it-IT" sz="32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6699ff"/>
                </a:solidFill>
                <a:latin typeface="Times New Roman"/>
              </a:rPr>
              <a:t>0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abbastanza vicino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a una radice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Controdomanda di Cayley </a:t>
            </a:r>
            <a:r>
              <a:rPr b="0" i="1" lang="it-IT" sz="3200" spc="-1" strike="noStrike">
                <a:solidFill>
                  <a:srgbClr val="00ffff"/>
                </a:solidFill>
                <a:latin typeface="Times New Roman"/>
              </a:rPr>
              <a:t>(diciannovesimo secolo):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ma se non sappiamo dove sono le radici come facciamo a essere </a:t>
            </a:r>
            <a:r>
              <a:rPr b="0" lang="it-IT" sz="3200" spc="-1" strike="noStrike">
                <a:solidFill>
                  <a:srgbClr val="ffff42"/>
                </a:solidFill>
                <a:latin typeface="Times New Roman"/>
              </a:rPr>
              <a:t>sicuri</a:t>
            </a:r>
            <a:r>
              <a:rPr b="0" lang="it-IT" sz="3200" spc="-1" strike="noStrike">
                <a:solidFill>
                  <a:srgbClr val="6699ff"/>
                </a:solidFill>
                <a:latin typeface="Times New Roman"/>
              </a:rPr>
              <a:t> di partire abbastanza vicini a una di esse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33ff"/>
                </a:solidFill>
                <a:latin typeface="Times New Roman"/>
              </a:rPr>
              <a:t>Riformulazione di Cayley: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consideriamo la funzione razionale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–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/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’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. 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Preso un numero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mplesso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poniamo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=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e, più in generale,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= f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–1</a:t>
            </a:r>
            <a:r>
              <a:rPr b="0" lang="it-IT" sz="2400" spc="-1" strike="noStrike">
                <a:solidFill>
                  <a:srgbClr val="36f83d"/>
                </a:solidFill>
                <a:latin typeface="Times New Roman"/>
              </a:rPr>
              <a:t>).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Se la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succession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ff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ffff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</a:rPr>
              <a:t>converg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a un numero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necessariament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ev’esser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; e questo può succedere se e solo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) = 0, cioè se e solo se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6699ff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è una </a:t>
            </a:r>
            <a:r>
              <a:rPr b="0" lang="it-IT" sz="2400" spc="-1" strike="noStrike">
                <a:solidFill>
                  <a:srgbClr val="ffff42"/>
                </a:solidFill>
                <a:latin typeface="Times New Roman"/>
              </a:rPr>
              <a:t>radice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 di </a:t>
            </a:r>
            <a:r>
              <a:rPr b="0" i="1" lang="it-IT" sz="24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99ff"/>
                </a:solidFill>
                <a:latin typeface="Times New Roman"/>
              </a:rPr>
              <a:t>. Quindi la domanda è: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per quali valori di x</a:t>
            </a:r>
            <a:r>
              <a:rPr b="0" lang="it-IT" sz="2400" spc="-1" strike="noStrike" baseline="-25000">
                <a:solidFill>
                  <a:srgbClr val="36f83d"/>
                </a:solidFill>
                <a:latin typeface="Times New Roman"/>
              </a:rPr>
              <a:t>0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la successione x</a:t>
            </a:r>
            <a:r>
              <a:rPr b="0" i="1" lang="it-IT" sz="2400" spc="-1" strike="noStrike" baseline="-25000">
                <a:solidFill>
                  <a:srgbClr val="36f83d"/>
                </a:solidFill>
                <a:latin typeface="Times New Roman"/>
              </a:rPr>
              <a:t>n</a:t>
            </a:r>
            <a:r>
              <a:rPr b="0" i="1" lang="it-IT" sz="2400" spc="-1" strike="noStrike">
                <a:solidFill>
                  <a:srgbClr val="36f83d"/>
                </a:solidFill>
                <a:latin typeface="Times New Roman"/>
              </a:rPr>
              <a:t> converge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9933ff"/>
                </a:solidFill>
                <a:latin typeface="Times New Roman"/>
              </a:rPr>
              <a:t>Prima risposta di Cayley: 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se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è un polinomio di secondo grado, la risposta è </a:t>
            </a:r>
            <a:r>
              <a:rPr b="0" lang="it-IT" sz="2000" spc="-1" strike="noStrike">
                <a:solidFill>
                  <a:srgbClr val="ff2b23"/>
                </a:solidFill>
                <a:latin typeface="Times New Roman"/>
              </a:rPr>
              <a:t>facile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. L’unico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000" spc="-1" strike="noStrike" baseline="-25000">
                <a:solidFill>
                  <a:srgbClr val="6699ff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da escludere è quello in cui la derivata di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si annulla (per cui 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6699ff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) non è neppure definita), e che è il </a:t>
            </a:r>
            <a:r>
              <a:rPr b="0" lang="it-IT" sz="2000" spc="-1" strike="noStrike">
                <a:solidFill>
                  <a:srgbClr val="ffff42"/>
                </a:solidFill>
                <a:latin typeface="Times New Roman"/>
              </a:rPr>
              <a:t>punto medio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 del segmento individuato dalle due radici. Partendo a sinistra del punto medio il procedimento converge alla radice più piccola; partendo a destra converge alla radice più grand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[</a:t>
            </a:r>
            <a:r>
              <a:rPr b="0" i="1" lang="it-IT" sz="2000" spc="-1" strike="noStrike">
                <a:solidFill>
                  <a:srgbClr val="36f83d"/>
                </a:solidFill>
                <a:latin typeface="Times New Roman"/>
              </a:rPr>
              <a:t>Nel piano complesso bisogna escludere l’</a:t>
            </a:r>
            <a:r>
              <a:rPr b="0" i="1" lang="it-IT" sz="2000" spc="-1" strike="noStrike">
                <a:solidFill>
                  <a:srgbClr val="ffff42"/>
                </a:solidFill>
                <a:latin typeface="Times New Roman"/>
              </a:rPr>
              <a:t>asse</a:t>
            </a:r>
            <a:r>
              <a:rPr b="0" i="1" lang="it-IT" sz="2000" spc="-1" strike="noStrike">
                <a:solidFill>
                  <a:srgbClr val="36f83d"/>
                </a:solidFill>
                <a:latin typeface="Times New Roman"/>
              </a:rPr>
              <a:t> del segmento congiungente le due radici; e partendo in ciascun semipiano il procedimento converge alla radice contenuta in quel semipiano</a:t>
            </a:r>
            <a:r>
              <a:rPr b="0" lang="it-IT" sz="2000" spc="-1" strike="noStrike">
                <a:solidFill>
                  <a:srgbClr val="6699ff"/>
                </a:solidFill>
                <a:latin typeface="Times New Roman"/>
              </a:rPr>
              <a:t>.]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41e"/>
                </a:solidFill>
                <a:latin typeface="Capitals"/>
              </a:rPr>
              <a:t>Facoltà di Scienze Matematiche, Fisiche e Naturali: </a:t>
            </a:r>
            <a:br>
              <a:rPr sz="2000"/>
            </a:br>
            <a:r>
              <a:rPr b="0" i="1" lang="en-US" sz="2000" spc="-1" strike="noStrike">
                <a:solidFill>
                  <a:srgbClr val="fff41e"/>
                </a:solidFill>
                <a:latin typeface="Capitals"/>
              </a:rPr>
              <a:t>Dipartimenti</a:t>
            </a:r>
            <a:r>
              <a:rPr b="1" lang="en-US" sz="3600" spc="-1" strike="noStrike">
                <a:solidFill>
                  <a:srgbClr val="fff41e"/>
                </a:solidFill>
                <a:latin typeface="Bauhaus 93"/>
              </a:rPr>
              <a:t> 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120" y="1752480"/>
            <a:ext cx="7543800" cy="4191120"/>
          </a:xfrm>
          <a:prstGeom prst="rect">
            <a:avLst/>
          </a:prstGeom>
          <a:solidFill>
            <a:srgbClr val="324b7d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9907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05120"/>
            <a:ext cx="685800" cy="4190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2209680"/>
            <a:ext cx="685800" cy="419112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17524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1523880"/>
            <a:ext cx="685800" cy="419112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1219320"/>
            <a:ext cx="685800" cy="419076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1981080"/>
            <a:ext cx="685800" cy="419112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1447920"/>
            <a:ext cx="685800" cy="4190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914400"/>
            <a:ext cx="685800" cy="4191120"/>
          </a:xfrm>
          <a:prstGeom prst="rect">
            <a:avLst/>
          </a:prstGeom>
          <a:gradFill rotWithShape="0">
            <a:gsLst>
              <a:gs pos="0">
                <a:srgbClr val="668c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 rot="16200000">
            <a:off x="-704520" y="2838600"/>
            <a:ext cx="3556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Chimica bioorganica 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biofarma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 rot="16200000">
            <a:off x="469800" y="3492360"/>
            <a:ext cx="264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e7ef"/>
                </a:solidFill>
                <a:latin typeface="Arial"/>
              </a:rPr>
              <a:t>chimica indust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fe7e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16200000">
            <a:off x="965160" y="3301560"/>
            <a:ext cx="304812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Etologia, ecologi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41e"/>
                </a:solidFill>
                <a:latin typeface="Arial"/>
              </a:rPr>
              <a:t>ed evoluzi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41e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16200000">
            <a:off x="2508120" y="3511080"/>
            <a:ext cx="1307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c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16200000">
            <a:off x="2057040" y="4038120"/>
            <a:ext cx="35816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isiologia e biochim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16200000">
            <a:off x="3589920" y="3572280"/>
            <a:ext cx="188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or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 rot="16200000">
            <a:off x="3733920" y="342900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2b23"/>
                </a:solidFill>
                <a:latin typeface="Arial"/>
              </a:rPr>
              <a:t>MATEM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2b23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 rot="16200000">
            <a:off x="4203720" y="3111120"/>
            <a:ext cx="342900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rfologia umana 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iologia applicat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16200000">
            <a:off x="4991040" y="369576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botani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16200000">
            <a:off x="5771880" y="337140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a ter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16200000">
            <a:off x="6273720" y="2717640"/>
            <a:ext cx="3429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cienze dell'uom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 dell'amb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Ma Cayley non riuscì a capire cosa succedeva con polinomi di terzo grado (o di grado maggiore). 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punti medi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e gli altri concetti di </a:t>
            </a:r>
            <a:r>
              <a:rPr b="0" i="1" lang="it-IT" sz="3200" spc="-1" strike="noStrike">
                <a:solidFill>
                  <a:srgbClr val="36f83d"/>
                </a:solidFill>
                <a:latin typeface="Times New Roman"/>
              </a:rPr>
              <a:t>geometria euclidea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non sembravano essere di alcuna utilità. Non riuscì neppure a capire che </a:t>
            </a:r>
            <a:r>
              <a:rPr b="0" i="1" lang="it-IT" sz="3200" spc="-1" strike="noStrike">
                <a:solidFill>
                  <a:srgbClr val="ffff42"/>
                </a:solidFill>
                <a:latin typeface="Times New Roman"/>
              </a:rPr>
              <a:t>domande</a:t>
            </a:r>
            <a:r>
              <a:rPr b="0" i="1" lang="it-IT" sz="3200" spc="-1" strike="noStrike">
                <a:solidFill>
                  <a:srgbClr val="9933ff"/>
                </a:solidFill>
                <a:latin typeface="Times New Roman"/>
              </a:rPr>
              <a:t> doveva porsi sull’insieme dei valori per cui il metodo di Newton funzionava. E non aveva tutti i torti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6680" y="57913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ff"/>
                </a:solidFill>
                <a:latin typeface="Times New Roman"/>
              </a:rPr>
              <a:t>E c’è anche di peggio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7760" y="152388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816280" y="2133720"/>
            <a:ext cx="3510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720" y="1523880"/>
            <a:ext cx="53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6f83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– (0.68 + 1.63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– 0.32 + 1.63 </a:t>
            </a:r>
            <a:r>
              <a:rPr b="0" i="1" lang="en-US" sz="2400" spc="-1" strike="noStrike">
                <a:solidFill>
                  <a:srgbClr val="36f83d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6f8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97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2b23"/>
                </a:solidFill>
                <a:latin typeface="Century Schoolbook"/>
              </a:rPr>
              <a:t>Esempio:</a:t>
            </a:r>
            <a:r>
              <a:rPr b="0" i="1" lang="en-US" sz="3600" spc="-1" strike="noStrike">
                <a:solidFill>
                  <a:srgbClr val="ff2b23"/>
                </a:solidFill>
                <a:latin typeface="Century Schoolbook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ff42"/>
                </a:solidFill>
                <a:latin typeface="Century Schoolbook"/>
              </a:rPr>
              <a:t>Il metodo di Newton per i polinomi</a:t>
            </a:r>
            <a:endParaRPr b="0" lang="en-US" sz="36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Si è riusciti a comprendere in maniera ragionevolmente completa cosa stava accadendo solo nella seconda metà del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entesimo secolo,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grazie allo sviluppo delle teori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sistemi dinamici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e dei </a:t>
            </a:r>
            <a:r>
              <a:rPr b="0" i="1" lang="en-US" sz="3200" spc="-1" strike="noStrike">
                <a:solidFill>
                  <a:srgbClr val="36f83d"/>
                </a:solidFill>
                <a:latin typeface="Times New Roman"/>
              </a:rPr>
              <a:t>frattal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Ancora oggi il metodo di Newton è oggetto di studi approfonditi, e non ha finito di rivelarci tutti i suoi </a:t>
            </a:r>
            <a:r>
              <a:rPr b="0" i="1" lang="en-US" sz="3200" spc="-1" strike="noStrike">
                <a:solidFill>
                  <a:srgbClr val="ff2b23"/>
                </a:solidFill>
                <a:latin typeface="Times New Roman"/>
              </a:rPr>
              <a:t>segreti.</a:t>
            </a:r>
            <a:r>
              <a:rPr b="0" i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41e"/>
                </a:solidFill>
                <a:latin typeface="Capitals"/>
              </a:rPr>
              <a:t>Facoltà di Scienze Matematiche, Fisiche e Naturali:</a:t>
            </a:r>
            <a:br>
              <a:rPr sz="2000"/>
            </a:br>
            <a:r>
              <a:rPr b="0" i="1" lang="en-US" sz="2000" spc="-1" strike="noStrike">
                <a:solidFill>
                  <a:srgbClr val="fff41e"/>
                </a:solidFill>
                <a:latin typeface="Capitals"/>
              </a:rPr>
              <a:t>Corsi di Laurea e Laurea specialistica</a:t>
            </a:r>
            <a:endParaRPr b="0" lang="en-US" sz="2000" spc="-1" strike="noStrike">
              <a:solidFill>
                <a:srgbClr val="fff41e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1752480"/>
            <a:ext cx="7772400" cy="4191120"/>
          </a:xfrm>
          <a:prstGeom prst="rect">
            <a:avLst/>
          </a:prstGeom>
          <a:solidFill>
            <a:srgbClr val="458ba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752480"/>
            <a:ext cx="5257800" cy="381240"/>
          </a:xfrm>
          <a:prstGeom prst="rect">
            <a:avLst/>
          </a:prstGeom>
          <a:solidFill>
            <a:srgbClr val="66fff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52578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Fis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14600"/>
            <a:ext cx="5257800" cy="380880"/>
          </a:xfrm>
          <a:prstGeom prst="rect">
            <a:avLst/>
          </a:prstGeom>
          <a:solidFill>
            <a:srgbClr val="66f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895480"/>
            <a:ext cx="5257800" cy="381240"/>
          </a:xfrm>
          <a:prstGeom prst="rect">
            <a:avLst/>
          </a:prstGeom>
          <a:solidFill>
            <a:srgbClr val="66e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Informatica applic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276720"/>
            <a:ext cx="5257800" cy="380880"/>
          </a:xfrm>
          <a:prstGeom prst="rect">
            <a:avLst/>
          </a:prstGeom>
          <a:solidFill>
            <a:srgbClr val="66d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657600"/>
            <a:ext cx="52578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biologiche molecola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038480"/>
            <a:ext cx="5257800" cy="381240"/>
          </a:xfrm>
          <a:prstGeom prst="rect">
            <a:avLst/>
          </a:prstGeom>
          <a:solidFill>
            <a:srgbClr val="66c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8f8f8"/>
                </a:solidFill>
                <a:latin typeface="Arial"/>
              </a:rPr>
              <a:t>Scienze ecologiche e della biodiversità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419720"/>
            <a:ext cx="5257800" cy="380880"/>
          </a:xfrm>
          <a:prstGeom prst="rect">
            <a:avLst/>
          </a:prstGeom>
          <a:solidFill>
            <a:srgbClr val="66b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8f8f8"/>
                </a:solidFill>
                <a:latin typeface="Arial"/>
              </a:rPr>
              <a:t>Scienze e tecnologie chimiche per l’industria e l’ambient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5257800" cy="380880"/>
          </a:xfrm>
          <a:prstGeom prst="rect">
            <a:avLst/>
          </a:prstGeom>
          <a:solidFill>
            <a:srgbClr val="66a6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181480"/>
            <a:ext cx="525780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cienze natural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562720"/>
            <a:ext cx="2286000" cy="609480"/>
          </a:xfrm>
          <a:prstGeom prst="rect">
            <a:avLst/>
          </a:prstGeom>
          <a:gradFill rotWithShape="0">
            <a:gsLst>
              <a:gs pos="0">
                <a:srgbClr val="285bff"/>
              </a:gs>
              <a:gs pos="100000">
                <a:srgbClr val="66ff73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per la pa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5562720"/>
            <a:ext cx="2590920" cy="609480"/>
          </a:xfrm>
          <a:prstGeom prst="rect">
            <a:avLst/>
          </a:prstGeom>
          <a:gradFill rotWithShape="0">
            <a:gsLst>
              <a:gs pos="0">
                <a:srgbClr val="5b4fff"/>
              </a:gs>
              <a:gs pos="100000">
                <a:srgbClr val="ff7366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8f8f8"/>
                </a:solidFill>
                <a:latin typeface="Arial"/>
              </a:rPr>
              <a:t>per l’ambiente</a:t>
            </a:r>
            <a:endParaRPr b="0" lang="en-US" sz="15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1752480"/>
            <a:ext cx="2514600" cy="15264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Chim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981080"/>
            <a:ext cx="2514600" cy="152640"/>
          </a:xfrm>
          <a:prstGeom prst="rect">
            <a:avLst/>
          </a:prstGeom>
          <a:gradFill rotWithShape="0">
            <a:gsLst>
              <a:gs pos="0">
                <a:srgbClr val="66fff3"/>
              </a:gs>
              <a:gs pos="50000">
                <a:srgbClr val="000000"/>
              </a:gs>
              <a:gs pos="100000">
                <a:srgbClr val="66fff3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Chimica industrial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133720"/>
            <a:ext cx="2514600" cy="759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Fisica applicata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2514600" cy="76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Scienze</a:t>
            </a:r>
            <a:r>
              <a:rPr b="1" i="1" lang="en-US" sz="6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dei materiali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438280"/>
            <a:ext cx="2514600" cy="76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000000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8f8f8"/>
                </a:solidFill>
                <a:latin typeface="Arial"/>
              </a:rPr>
              <a:t>Scienze fisiche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2514600"/>
            <a:ext cx="2514600" cy="15228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Informatic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743200"/>
            <a:ext cx="2514600" cy="152280"/>
          </a:xfrm>
          <a:prstGeom prst="rect">
            <a:avLst/>
          </a:prstGeom>
          <a:gradFill rotWithShape="0">
            <a:gsLst>
              <a:gs pos="0">
                <a:srgbClr val="66f3ff"/>
              </a:gs>
              <a:gs pos="50000">
                <a:srgbClr val="000000"/>
              </a:gs>
              <a:gs pos="100000">
                <a:srgbClr val="66f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Tecnologie informatiche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2895480"/>
            <a:ext cx="2514600" cy="381240"/>
          </a:xfrm>
          <a:prstGeom prst="rect">
            <a:avLst/>
          </a:prstGeom>
          <a:gradFill rotWithShape="0">
            <a:gsLst>
              <a:gs pos="0">
                <a:srgbClr val="66e6ff"/>
              </a:gs>
              <a:gs pos="50000">
                <a:srgbClr val="000000"/>
              </a:gs>
              <a:gs pos="100000">
                <a:srgbClr val="66e6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Informatica per l’econom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e l’aziend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3276720"/>
            <a:ext cx="2514600" cy="380880"/>
          </a:xfrm>
          <a:prstGeom prst="rect">
            <a:avLst/>
          </a:prstGeom>
          <a:gradFill rotWithShape="0">
            <a:gsLst>
              <a:gs pos="0">
                <a:srgbClr val="66d9ff"/>
              </a:gs>
              <a:gs pos="50000">
                <a:srgbClr val="000000"/>
              </a:gs>
              <a:gs pos="100000">
                <a:srgbClr val="66d9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3657600"/>
            <a:ext cx="2514600" cy="152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Neurobiologi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3886200"/>
            <a:ext cx="2514600" cy="152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00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Scienze e tecnologie biomolecolar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4038480"/>
            <a:ext cx="2514600" cy="15264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8f8f8"/>
                </a:solidFill>
                <a:latin typeface="Arial"/>
              </a:rPr>
              <a:t>Biologia marina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4267080"/>
            <a:ext cx="2514600" cy="152640"/>
          </a:xfrm>
          <a:prstGeom prst="rect">
            <a:avLst/>
          </a:prstGeom>
          <a:gradFill rotWithShape="0">
            <a:gsLst>
              <a:gs pos="0">
                <a:srgbClr val="66c0ff"/>
              </a:gs>
              <a:gs pos="50000">
                <a:srgbClr val="000000"/>
              </a:gs>
              <a:gs pos="100000">
                <a:srgbClr val="66c0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f8f8f8"/>
                </a:solidFill>
                <a:latin typeface="Arial"/>
              </a:rPr>
              <a:t>Scienze fisiopatologiche generali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419720"/>
            <a:ext cx="2514600" cy="380880"/>
          </a:xfrm>
          <a:prstGeom prst="rect">
            <a:avLst/>
          </a:prstGeom>
          <a:gradFill rotWithShape="0">
            <a:gsLst>
              <a:gs pos="0">
                <a:srgbClr val="66b3ff"/>
              </a:gs>
              <a:gs pos="50000">
                <a:srgbClr val="000000"/>
              </a:gs>
              <a:gs pos="100000">
                <a:srgbClr val="66b3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Scienze e tecnologie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per l’ambiente e il territor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4800600"/>
            <a:ext cx="2514600" cy="380880"/>
          </a:xfrm>
          <a:prstGeom prst="rect">
            <a:avLst/>
          </a:prstGeom>
          <a:gradFill rotWithShape="0">
            <a:gsLst>
              <a:gs pos="0">
                <a:srgbClr val="66a6ff"/>
              </a:gs>
              <a:gs pos="50000">
                <a:srgbClr val="000000"/>
              </a:gs>
              <a:gs pos="100000">
                <a:srgbClr val="66a6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Scienze geologich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181480"/>
            <a:ext cx="2514600" cy="3812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Gestione e valorizzazio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8f8f8"/>
                </a:solidFill>
                <a:latin typeface="Arial"/>
              </a:rPr>
              <a:t>delle risorse natural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4200" y="15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7400" y="3581280"/>
            <a:ext cx="167652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02b4"/>
                </a:solidFill>
                <a:latin typeface="Techno"/>
              </a:rPr>
              <a:t>Laure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581280"/>
            <a:ext cx="1295280" cy="609840"/>
          </a:xfrm>
          <a:prstGeom prst="rect">
            <a:avLst/>
          </a:prstGeom>
          <a:solidFill>
            <a:srgbClr val="60ca8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echno"/>
              </a:rPr>
              <a:t>Laurea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echno"/>
              </a:rPr>
              <a:t>specialistic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581280"/>
            <a:ext cx="1523880" cy="609840"/>
          </a:xfrm>
          <a:prstGeom prst="rect">
            <a:avLst/>
          </a:prstGeom>
          <a:solidFill>
            <a:srgbClr val="fff41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65dc"/>
                </a:solidFill>
                <a:latin typeface="Techno"/>
              </a:rPr>
              <a:t>Dottora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5029200"/>
            <a:ext cx="4267080" cy="1066680"/>
          </a:xfrm>
          <a:prstGeom prst="rect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Techno"/>
              </a:rPr>
              <a:t>Mondo del lavor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295280"/>
            <a:ext cx="1218960" cy="609840"/>
          </a:xfrm>
          <a:prstGeom prst="rect">
            <a:avLst/>
          </a:prstGeom>
          <a:solidFill>
            <a:srgbClr val="60ca8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Techno"/>
              </a:rPr>
              <a:t>Altre lauree specialistich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209680"/>
            <a:ext cx="15238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02b4"/>
                </a:solidFill>
                <a:latin typeface="Techno"/>
              </a:rPr>
              <a:t>Altre laure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133720"/>
            <a:ext cx="762120" cy="350496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267080"/>
            <a:ext cx="1219320" cy="685800"/>
          </a:xfrm>
          <a:prstGeom prst="line">
            <a:avLst/>
          </a:prstGeom>
          <a:ln w="1584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3886200"/>
            <a:ext cx="68580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1676520"/>
            <a:ext cx="685800" cy="1828800"/>
          </a:xfrm>
          <a:prstGeom prst="line">
            <a:avLst/>
          </a:prstGeom>
          <a:ln w="1260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895480"/>
            <a:ext cx="838080" cy="609840"/>
          </a:xfrm>
          <a:prstGeom prst="line">
            <a:avLst/>
          </a:prstGeom>
          <a:ln w="1908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267080"/>
            <a:ext cx="0" cy="762120"/>
          </a:xfrm>
          <a:prstGeom prst="line">
            <a:avLst/>
          </a:prstGeom>
          <a:ln w="1908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933960" y="4267080"/>
            <a:ext cx="533160" cy="68580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3886200"/>
            <a:ext cx="304920" cy="0"/>
          </a:xfrm>
          <a:prstGeom prst="line">
            <a:avLst/>
          </a:prstGeom>
          <a:ln w="2556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55240" y="3630240"/>
            <a:ext cx="2095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echno"/>
              </a:rPr>
              <a:t>Scuole superior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600200"/>
            <a:ext cx="2666880" cy="1905120"/>
          </a:xfrm>
          <a:prstGeom prst="line">
            <a:avLst/>
          </a:prstGeom>
          <a:ln w="12600">
            <a:solidFill>
              <a:srgbClr val="c207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88680" y="1676520"/>
            <a:ext cx="233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urea: 3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urea specialistica: 2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Dottorato: 3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41e"/>
                </a:solidFill>
                <a:latin typeface="Arial"/>
              </a:rPr>
              <a:t>Lavoro: tanti anni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33000" y="533520"/>
            <a:ext cx="66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Sequenza dei corsi universitari di Matemat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2070e"/>
                </a:solidFill>
                <a:latin typeface="Times New Roman"/>
              </a:rPr>
              <a:t>Curriculum fondamentale: 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fornisce una preparazione di base a largo spettro di Matematica e Fisica, con buoni elementi di Informatica, rivolta soprattutto (ma non solo) a chi è interessato alla Matematica in quanto tale e alle applicazioni classich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2070e"/>
                </a:solidFill>
                <a:latin typeface="Times New Roman"/>
              </a:rPr>
              <a:t>Curriculum computazionale a orientamento informatico: 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fornisce una preparazione di base a largo raggio di Matematica e Informatica, con buoni elementi di Fisica, rivolta soprattutto (ma non solo) a chi è interessato all’uso della Matematica  negli strumenti di calcolo informatic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Corso di Laurea Specialistica in Matematica</a:t>
            </a:r>
            <a:br>
              <a:rPr sz="2400"/>
            </a:b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4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rmette di completare la preparazione di base in Matematica, e di approfondire argomenti specifici di Matematica e di altre scienze. Molto flessibile, prevede sia piani di studio rivolti alla ricerca, pura e applicata, sia piani di studio rivolti all’inserimento nel mercato del lavoro o alla preparazione all’insegnament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962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Corso di Dottorato in Matematica</a:t>
            </a:r>
            <a:br>
              <a:rPr sz="2400"/>
            </a:b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952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rmette di ottenere una preparazione approfondita in un campo specifico della Matematica, e di avviarsi proficuamente alla ricerca in Matematica pura o applicat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41e"/>
                </a:solidFill>
                <a:latin typeface="Capitals"/>
              </a:rPr>
              <a:t>POSSIBILITÀ DI LAVORO</a:t>
            </a:r>
            <a:endParaRPr b="0" lang="en-US" sz="24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Tante, e varie. Qualche esempi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Università e centri di ricerca pubblici e privat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Banche e istituti finanziar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Ditte di telecomunicazion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Istituti statistici e demoscopic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Aziende di software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Assicurazion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Case editric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ffff"/>
                </a:solidFill>
                <a:latin typeface="Times New Roman"/>
              </a:rPr>
              <a:t>Scuole di vari ordini e gradi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E, più in generale, in tutte quelle situazioni in cui è importante saper ragionare logicamente, usare un computer, e non spaventarsi di fronte a problemi che coinvolgano numeri o modelli matematici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648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Non abbiamo (ancora) dati statistici precisi, ma le informazioni raccolte finora indicano che oltre il </a:t>
            </a:r>
            <a:r>
              <a:rPr b="0" i="1" lang="en-US" sz="2400" spc="-1" strike="noStrike">
                <a:solidFill>
                  <a:srgbClr val="fff41e"/>
                </a:solidFill>
                <a:latin typeface="Times New Roman"/>
              </a:rPr>
              <a:t>95% </a:t>
            </a: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dei laureati in matematica trova lavoro entro </a:t>
            </a:r>
            <a:r>
              <a:rPr b="0" i="1" lang="en-US" sz="2400" spc="-1" strike="noStrike">
                <a:solidFill>
                  <a:srgbClr val="fff41e"/>
                </a:solidFill>
                <a:latin typeface="Times New Roman"/>
              </a:rPr>
              <a:t>1 anno</a:t>
            </a:r>
            <a:r>
              <a:rPr b="0" i="1" lang="en-US" sz="2400" spc="-1" strike="noStrike">
                <a:solidFill>
                  <a:srgbClr val="c2070e"/>
                </a:solidFill>
                <a:latin typeface="Times New Roman"/>
              </a:rPr>
              <a:t> dalla laure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Corso di Laurea in Matematica</a:t>
            </a:r>
            <a:br>
              <a:rPr sz="2800"/>
            </a:br>
            <a:r>
              <a:rPr b="0" lang="en-US" sz="2800" spc="-1" strike="noStrike">
                <a:solidFill>
                  <a:srgbClr val="fff41e"/>
                </a:solidFill>
                <a:latin typeface="Capitals"/>
              </a:rPr>
              <a:t>Università di Pisa</a:t>
            </a:r>
            <a:endParaRPr b="0" lang="en-US" sz="2800" spc="-1" strike="noStrike">
              <a:solidFill>
                <a:srgbClr val="fff41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2070e"/>
                </a:solidFill>
                <a:latin typeface="Apple Chancery"/>
              </a:rPr>
              <a:t>Primo Ann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lgeb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Proprietà dei numeri e dei polinomi, e strutture algebriche da essi ispirat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Analisi Mate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Derivate e integrali di funzioni di una variabile real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Fis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Cinematica e dinamica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Geometri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Rette e piani e iperpiani in </a:t>
            </a:r>
            <a:r>
              <a:rPr b="0" i="1" lang="it-IT" sz="2000" spc="-1" strike="noStrike">
                <a:solidFill>
                  <a:srgbClr val="f8f8f8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 dimensioni, e strutture algebriche e geometriche collegate.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 (14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Informatic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troduzione al funzionamento dei computer e alla programmazion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7 crediti + 5 crediti di laboratorio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ffff"/>
                </a:solidFill>
                <a:latin typeface="Times New Roman"/>
              </a:rPr>
              <a:t>Lingua straniera: </a:t>
            </a: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Inglese. </a:t>
            </a:r>
            <a:r>
              <a:rPr b="0" lang="it-IT" sz="2000" spc="-1" strike="noStrike">
                <a:solidFill>
                  <a:srgbClr val="f502b4"/>
                </a:solidFill>
                <a:latin typeface="Times New Roman"/>
              </a:rPr>
              <a:t>(5 credit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2:51:00Z</dcterms:created>
  <dc:creator>Marco Abate</dc:creator>
  <dc:description/>
  <dc:language>en-US</dc:language>
  <cp:lastModifiedBy>Marco Abate</cp:lastModifiedBy>
  <cp:lastPrinted>2002-11-08T13:03:03Z</cp:lastPrinted>
  <dcterms:modified xsi:type="dcterms:W3CDTF">2005-02-07T14:46:56Z</dcterms:modified>
  <cp:revision>33</cp:revision>
  <dc:subject/>
  <dc:title> La MATEMATICA salva la vita</dc:title>
</cp:coreProperties>
</file>